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ECF-CF15-413D-A841-DD949649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053-9107-4CEB-8028-0FC9C1BB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A08-5BB6-467C-9072-0BA353DE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79E-18DC-4757-9978-A2358D08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E40-0448-4D92-B060-A688A8EA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506-C151-4C9E-8AA6-F85B1E4C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819-C115-4A4A-AB3C-407C85C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2FC-89D3-481A-B95C-06013AE1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72D-198D-4110-9AD8-2B869561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B51-3ECA-4FE3-B693-893B6FA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392-0FF5-417A-B497-DABDADC8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235-BC06-4847-9B7D-F8A0014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B3C-F452-49B2-880F-94925595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3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COTTISH  INDOOR  ASSOC.        SCOTTISH  INDOOR  ASSOC.                      ABERDEEN                                    ABERDEEN                                      ABERDEEN  25TH                                  ALLAND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     AYR                                           BAINFIELD                                     BALBARDIE                                         BLANTYRE                                    BLANTYRE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N  ACCORD                                    BUCHAN                                   CASTLEMILK                                      CLYDEBANK                                       COATBRIDGE                                           COW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73240" y="191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8520" y="1628640"/>
            <a:ext cx="1243080" cy="128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243080" cy="110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28880" y="26028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13240" y="26028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952880" y="260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608880" y="11592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8193240" y="260280"/>
            <a:ext cx="95076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24520" y="170028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608880" y="148428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121600" y="1844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31800" y="3645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73240" y="342900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440160" y="3645000"/>
            <a:ext cx="140796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097600" y="364500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608880" y="3284640"/>
            <a:ext cx="127944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193240" y="350028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88880" y="5300640"/>
            <a:ext cx="12621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073240" y="5445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097600" y="544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681960" y="5445000"/>
            <a:ext cx="116964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193240" y="5084640"/>
            <a:ext cx="1315800" cy="14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488880" y="1916280"/>
            <a:ext cx="1082880" cy="113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        ARBROATH                          ARBROATH  25TH                                ARDROSSAN                                          ARDROSSAN                                AUCHINL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0:23:11Z</dcterms:created>
  <dc:creator>John Young</dc:creator>
  <dc:description/>
  <dc:language>en-US</dc:language>
  <cp:lastModifiedBy>JY</cp:lastModifiedBy>
  <cp:lastPrinted>2000-10-18T00:23:58Z</cp:lastPrinted>
  <dcterms:modified xsi:type="dcterms:W3CDTF">2007-05-15T15:24:31Z</dcterms:modified>
  <cp:revision>10</cp:revision>
  <dc:subject/>
  <dc:title>No Slide Title</dc:title>
</cp:coreProperties>
</file>